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6421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560" y="3693960"/>
            <a:ext cx="72388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56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200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200" y="149832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7840" y="149832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560" y="369396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200" y="369396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7840" y="369396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105000"/>
              </a:lnSpc>
              <a:spcBef>
                <a:spcPts val="82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2560" y="456840"/>
            <a:ext cx="72388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56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200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560" y="389880"/>
            <a:ext cx="7238880" cy="62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560" y="3693960"/>
            <a:ext cx="72388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rtl="1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Univers 45 Light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 rtl="1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857160" indent="-28548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2" marL="1333440" indent="-28584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3" marL="1905120" indent="-28116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4" marL="2243160" indent="-14760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5" marL="2243160" indent="-14760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6" marL="2243160" indent="-147600" rtl="1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" name=""/>
          <p:cNvSpPr/>
          <p:nvPr/>
        </p:nvSpPr>
        <p:spPr>
          <a:xfrm>
            <a:off x="8153280" y="152280"/>
            <a:ext cx="990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afd00"/>
                </a:solidFill>
                <a:latin typeface="Univers 45 Light"/>
                <a:ea typeface="Times New Roman"/>
              </a:rPr>
              <a:t>Reference</a:t>
            </a:r>
            <a:r>
              <a:rPr b="1" lang="en-US" sz="700" spc="-1" strike="noStrike">
                <a:solidFill>
                  <a:srgbClr val="fafd00"/>
                </a:solidFill>
                <a:latin typeface="Univers 45 Light"/>
                <a:ea typeface="Times New Roman"/>
              </a:rPr>
              <a:t> </a:t>
            </a:r>
            <a:r>
              <a:rPr b="1" lang="ar-SA" sz="700" spc="-1" strike="noStrike">
                <a:solidFill>
                  <a:srgbClr val="fafd00"/>
                </a:solidFill>
                <a:latin typeface="Univers 45 Light"/>
                <a:cs typeface="Times New Roman"/>
              </a:rPr>
              <a:t>ُ</a:t>
            </a:r>
            <a:r>
              <a:rPr b="1" lang="en-US" sz="700" spc="-1" strike="noStrike">
                <a:solidFill>
                  <a:srgbClr val="fafd00"/>
                </a:solidFill>
                <a:latin typeface="Univers 45 Light"/>
                <a:ea typeface="Times New Roman"/>
              </a:rPr>
              <a:t>ESAA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23080" y="6400800"/>
            <a:ext cx="1192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" spc="-1" strike="noStrike">
                <a:solidFill>
                  <a:srgbClr val="fafd00"/>
                </a:solidFill>
                <a:latin typeface="Univers 55"/>
                <a:cs typeface="Times New Roman"/>
              </a:rPr>
              <a:t>إيهاب عقل - </a:t>
            </a:r>
            <a:r>
              <a:rPr b="1" lang="ar-SA" sz="1000" spc="-1" strike="noStrike">
                <a:solidFill>
                  <a:srgbClr val="fafd00"/>
                </a:solidFill>
                <a:latin typeface="Univers 55"/>
                <a:ea typeface="Times New Roman"/>
              </a:rPr>
              <a:t>200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191120" y="6278400"/>
            <a:ext cx="76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C41A-6DFA-4BAC-A585-2ED732B382AC}" type="slidenum">
              <a:rPr b="0" lang="en-US" sz="2200" spc="-1" strike="noStrike">
                <a:solidFill>
                  <a:srgbClr val="b760f9"/>
                </a:solidFill>
                <a:latin typeface="Univers 65 Bold"/>
              </a:rPr>
              <a:t>&lt;number&gt;</a:t>
            </a:fld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18440"/>
            <a:ext cx="96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المحاسبة –  </a:t>
            </a:r>
            <a:r>
              <a:rPr b="1" lang="en-US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ن</a:t>
            </a:r>
            <a:r>
              <a:rPr b="1" lang="ar-SA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ها</a:t>
            </a:r>
            <a:r>
              <a:rPr b="1" lang="en-US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ئ</a:t>
            </a:r>
            <a:r>
              <a:rPr b="1" lang="ar-SA" sz="800" spc="-1" strike="noStrike">
                <a:solidFill>
                  <a:srgbClr val="fafd00"/>
                </a:solidFill>
                <a:latin typeface="Univers 55"/>
                <a:cs typeface="Times New Roman"/>
              </a:rPr>
              <a:t>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Univers 45 Light"/>
              </a:rPr>
              <a:t>جمعية المحاسبين و المراجعين المصرية</a:t>
            </a:r>
            <a:endParaRPr b="1" lang="en-US" sz="44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200400"/>
            <a:ext cx="79250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برنامج الإعداد لإمتحان النهائى </a:t>
            </a:r>
            <a:br>
              <a:rPr sz="4000"/>
            </a:br>
            <a:br>
              <a:rPr sz="4000"/>
            </a:br>
            <a:r>
              <a:rPr b="1" lang="ar-EG" sz="40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مادة المحاسب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زايا الطريقة المباشر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108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9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ن الميزة الرئيسية للطريقة المباشرة هي أنها توضح المتحصلات والمدفوعات النقدية التشغيلية . </a:t>
            </a:r>
            <a:endParaRPr b="1" lang="en-US" sz="29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8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9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ن معرفة المصادر الخاصة بالمتحصلات النقدية والأغراض التي تم صرف المدفوعات النقدية فيها في الفترات الماضية قد يكون مفيدا فى تحديد التدفقات النقدية المستقبلية . </a:t>
            </a:r>
            <a:endParaRPr b="1" lang="en-US" sz="29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8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9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عيار المحاسبة الدولي رقم (</a:t>
            </a:r>
            <a:r>
              <a:rPr b="1" lang="en-US" sz="29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7</a:t>
            </a:r>
            <a:r>
              <a:rPr b="1" lang="en-US" sz="29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يشجع ، لكن لا يشترط استخدام الطريقة المباشرة . </a:t>
            </a:r>
            <a:endParaRPr b="1" lang="en-US" sz="29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زايا الطريقة غير المباشر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5416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تتمثل الميزة الرئيسية للطريقة غير المباشرة في أنها تلقى الضوء على الفروق بين الربح المقرر عنه (بقائمة الدخل) وصافى التدفقات النقدية من أنشطة التشغيل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يعتقد العديد من المستخدمين أن تلك التسوية ضرورية للحصول على مؤشر عن جودة الأرباح في المنشأ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ebdings" charset="2"/>
              <a:buChar char="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يقوم بعض المستثمرين والمقرضين بتحديد التدفقات النقدية المستقبلية عن طريق تحديد الدخل المستقبلي وعندئذ السماح بتسويات المستحقات ، لذلك فالمعلومات عن تسويات المستحقات الماضية قد تكون مفيدة فى المساعدة فى تقدير التسويات المستقبلية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 الإهلاك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3276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125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3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هلاك هو تخفيض دفترى للنفقة الرأسمالية . والنفقة الرأسمالية سوف يتم إدراجها ضمن الأنشطة الاستثمارية فى وقت التدفق النقدى الخارج لسدادها، ولذلك فالاهلاك يجب أن يتم اضافته للربح المقرر عنه عند تحديد التدفقات النقدية من أنشطة التشغيل . 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800" spc="-1" strike="noStrike">
                <a:solidFill>
                  <a:srgbClr val="0000fa"/>
                </a:solidFill>
                <a:latin typeface="Univers 45 Light"/>
              </a:rPr>
              <a:t>أنشطة التشغيل -   التخلص من الأصل غير المتداول</a:t>
            </a:r>
            <a:endParaRPr b="1" lang="en-US" sz="38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3276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125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3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جب إدراج التدفق النقدى الداخل من البيع ضمن الأنشطة الاستثمارية 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125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3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ذا تم ادراج الربح أو الخسارة عند البيع فى الربح قبل الضريبة ، فمن الضرورى اجراء تسوية عند حساب التدفق النقدى ، ويتم اضافة الخسارة الى الربح المقرر عنه ، ويتم خصم الربح من الربح المقرر عنه.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 التغير فى العملاء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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بيعات خلال الفترة لا تعنى بالضرورة وجود تدفقات نقدية داخلة للشركة إلا إذا قام العملاء المعنيين بسداد قيمة هذه المبيعات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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تسوية ربح الفترة بقيمة التغير فى أرصدة العملاء للوصول إلى التدفقات النقدية الداخلة من العملاء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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أرصدة العملاء تمثل مبيعات لم تحصل قيمتها بعد لذلك يجب خصمها من ربح الفتر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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ص فى أرصدة العملاء تمثل متحصلات من مبيعات الفترات السابقة تم سدادها علاوة على سداد كافة مبيعات الفترة الحالية لذلك يجب إضافتها إلى ربح الفتر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 التغير فى المخزون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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مثل المخزون في تاريخ الميزانية المشتريات التى لم يتم تحميلها بالفعل على الأرباح الحالية 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لم يتم بيعها)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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لذلك يجب تسوية ربح/خسارة الفترة بقيمة التغير فى المخزون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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ص فى المخزون يعنى أن جزء من تكلفة المبيعات يمثل بضاعة تم شرائها من العام الماضى و بالتالى لا يمثل تدفقات نقدية خارجة خلال الفترة الحالية و عليه يجب إضافة قيمة هذا النقص إلى التدفقات النقدية من أنشطة التشغيل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ingdings" charset="2"/>
              <a:buChar char="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المخزون تعنى أن بضائع تم شرائها خلال الفترة و لم تحمل على قائمة الدخل حيث لم يتم بيعها بعد، لذلك يجب خصم قيمة هذه الزيادة من التدفقات النقدية لأنشطة التشغيل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التغير فى الموردين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رصدة الموردين تشير إلى أن جزء من تكلفة المشتريات لم يتم سدادها للموردين بعد ، لذلك يجب تسوية أرباح أو خسائر الفترة بقيمة التغير فى أرصدة الموردين بغرض تحديد التدفقات النقدية من أنشطة التشغيل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ي الموردين تعنى أن بعض المشتريات خلال العام لم تسدد قيمتها بعد لذلك يجب إضافة قيمة هذه الزيادة للتدفقات النقدية من التشغيل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5000"/>
              <a:buFont typeface="Webdings" charset="2"/>
              <a:buChar char=""/>
              <a:tabLst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ص فى الموردين يعنى أن مشتريات العام تم سدادها بالكامل بالإضافة لسداد جزء من قيمة مشتريات الفترات السابقة لذلك يجب تخفيض الربح المقرر عنه بقيمة هذا النقص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4000" spc="-1" strike="noStrike">
                <a:solidFill>
                  <a:srgbClr val="0000fa"/>
                </a:solidFill>
                <a:latin typeface="Univers 45 Light"/>
              </a:rPr>
              <a:t>حالة عمل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أسفرت نتائج أعمال السنة المالية الأولى لشركة الرواد عن صافى ربح قبل الضرائب بمبلغ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300.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جنيه . حدد صافى التدفقات النقدية من أنشطة التشغيل ، و فيما يلى بعض أرصدة الميزانية فى نهاية العام :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 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cs typeface="Arabic Transparent"/>
              </a:rPr>
              <a:t>جنيه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زيادة فى العملاء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25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زيادة فى المخزون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18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زيادة فى الموردين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35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تحليل الموردين كما يلى :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للمواد الخام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027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لأصل غير متداول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2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للمصروفات المتنوعة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135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just" rtl="1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r" pos="6103800"/>
                <a:tab algn="l" pos="6243480"/>
                <a:tab algn="l" pos="6515280"/>
                <a:tab algn="l" pos="6786720"/>
                <a:tab algn="l" pos="7058160"/>
                <a:tab algn="l" pos="7329600"/>
                <a:tab algn="l" pos="7601040"/>
                <a:tab algn="l" pos="7872480"/>
                <a:tab algn="l" pos="8143920"/>
                <a:tab algn="l" pos="8415360"/>
                <a:tab algn="l" pos="8686800"/>
                <a:tab algn="l" pos="8958240"/>
                <a:tab algn="l" pos="9229680"/>
                <a:tab algn="l" pos="9501120"/>
                <a:tab algn="l" pos="9772560"/>
                <a:tab algn="l" pos="10044000"/>
                <a:tab algn="l" pos="10315440"/>
                <a:tab algn="l" pos="10586880"/>
                <a:tab algn="l" pos="1085868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مستحقات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Arabic Transparent"/>
              </a:rPr>
              <a:t>6800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	</a:t>
            </a:r>
            <a:r>
              <a:rPr b="0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Arabic Transparent"/>
              </a:rPr>
              <a:t>135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5000" spc="-1" strike="noStrike">
                <a:solidFill>
                  <a:srgbClr val="0000fa"/>
                </a:solidFill>
                <a:latin typeface="Univers 45 Light"/>
              </a:rPr>
              <a:t>حل الحالة العملية</a:t>
            </a:r>
            <a:endParaRPr b="1" lang="en-US" sz="5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2133720"/>
            <a:ext cx="8534160" cy="2743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   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 u="sng">
                <a:solidFill>
                  <a:srgbClr val="ffffff"/>
                </a:solidFill>
                <a:uFillTx/>
                <a:latin typeface="Univers 45 Light"/>
                <a:cs typeface="Simplified Arabic"/>
              </a:rPr>
              <a:t>جنيه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ربح قبل الضرائب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300000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المخزون 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18000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العملاء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25000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زيادة فى الموردين (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35000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-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2000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r>
              <a:rPr b="1" lang="ar-SA" sz="27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123000</a:t>
            </a:r>
            <a:r>
              <a:rPr b="1" lang="ar-SA" sz="27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صافى التدفق النقدي من أنشطة التشغيل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r>
              <a:rPr b="1" lang="ar-SA" sz="27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180000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1447920"/>
            <a:ext cx="2819520" cy="1066680"/>
          </a:xfrm>
          <a:prstGeom prst="wedgeRoundRectCallout">
            <a:avLst>
              <a:gd name="adj1" fmla="val -73930"/>
              <a:gd name="adj2" fmla="val 193750"/>
              <a:gd name="adj3" fmla="val 16667"/>
            </a:avLst>
          </a:prstGeom>
          <a:solidFill>
            <a:srgbClr val="fc0128"/>
          </a:soli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تخص اصل غير متداو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تدرج بأنشطة الاستثما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      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فائدة والتوز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914400" y="2438280"/>
            <a:ext cx="7315200" cy="1221120"/>
            <a:chOff x="914400" y="2438280"/>
            <a:chExt cx="7315200" cy="1221120"/>
          </a:xfrm>
        </p:grpSpPr>
        <p:sp>
          <p:nvSpPr>
            <p:cNvPr id="91" name=""/>
            <p:cNvSpPr/>
            <p:nvPr/>
          </p:nvSpPr>
          <p:spPr>
            <a:xfrm>
              <a:off x="914400" y="2590560"/>
              <a:ext cx="7315200" cy="1068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99"/>
                  </a:solidFill>
                  <a:latin typeface="Univers 65 Bold"/>
                  <a:cs typeface="Arabic Transparent"/>
                </a:rPr>
                <a:t>تشغيل                                  تشغي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05320" y="2438280"/>
              <a:ext cx="2133360" cy="914400"/>
            </a:xfrm>
            <a:prstGeom prst="octagon">
              <a:avLst>
                <a:gd name="adj" fmla="val 29287"/>
              </a:avLst>
            </a:prstGeom>
            <a:solidFill>
              <a:srgbClr val="fafd00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99"/>
                  </a:solidFill>
                  <a:latin typeface="Univers 65 Bold"/>
                </a:rPr>
                <a:t>مسئول عن النقدية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914400" y="3530520"/>
            <a:ext cx="7315200" cy="1225800"/>
            <a:chOff x="914400" y="3530520"/>
            <a:chExt cx="7315200" cy="1225800"/>
          </a:xfrm>
        </p:grpSpPr>
        <p:sp>
          <p:nvSpPr>
            <p:cNvPr id="94" name=""/>
            <p:cNvSpPr/>
            <p:nvPr/>
          </p:nvSpPr>
          <p:spPr>
            <a:xfrm>
              <a:off x="914400" y="3687480"/>
              <a:ext cx="7315200" cy="1068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99"/>
                  </a:solidFill>
                  <a:latin typeface="Univers 65 Bold"/>
                  <a:cs typeface="Arabic Transparent"/>
                </a:rPr>
                <a:t>استثمار                                 تموي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05320" y="3530520"/>
              <a:ext cx="2133360" cy="914400"/>
            </a:xfrm>
            <a:prstGeom prst="octagon">
              <a:avLst>
                <a:gd name="adj" fmla="val 29287"/>
              </a:avLst>
            </a:prstGeom>
            <a:solidFill>
              <a:srgbClr val="fafd00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99"/>
                  </a:solidFill>
                  <a:latin typeface="Univers 65 Bold"/>
                </a:rPr>
                <a:t>مصدر النقدية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14400" y="4610160"/>
            <a:ext cx="7315200" cy="1213200"/>
            <a:chOff x="914400" y="4610160"/>
            <a:chExt cx="7315200" cy="1213200"/>
          </a:xfrm>
        </p:grpSpPr>
        <p:sp>
          <p:nvSpPr>
            <p:cNvPr id="97" name=""/>
            <p:cNvSpPr/>
            <p:nvPr/>
          </p:nvSpPr>
          <p:spPr>
            <a:xfrm>
              <a:off x="914400" y="4754520"/>
              <a:ext cx="7315200" cy="1068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99"/>
                  </a:solidFill>
                  <a:latin typeface="Univers 65 Bold"/>
                  <a:cs typeface="Arabic Transparent"/>
                </a:rPr>
                <a:t>تشغيل                                  تموي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5320" y="4610160"/>
              <a:ext cx="2133360" cy="914400"/>
            </a:xfrm>
            <a:prstGeom prst="octagon">
              <a:avLst>
                <a:gd name="adj" fmla="val 29287"/>
              </a:avLst>
            </a:prstGeom>
            <a:solidFill>
              <a:srgbClr val="fafd00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99"/>
                  </a:solidFill>
                  <a:latin typeface="Univers 65 Bold"/>
                </a:rPr>
                <a:t>الأكثر إتباع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257800" y="1295280"/>
            <a:ext cx="2971800" cy="990720"/>
          </a:xfrm>
          <a:prstGeom prst="downArrowCallout">
            <a:avLst>
              <a:gd name="adj1" fmla="val 74998"/>
              <a:gd name="adj2" fmla="val 74991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65 Bold"/>
              </a:rPr>
              <a:t>الفائ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295280"/>
            <a:ext cx="2971800" cy="990720"/>
          </a:xfrm>
          <a:prstGeom prst="downArrowCallout">
            <a:avLst>
              <a:gd name="adj1" fmla="val 74998"/>
              <a:gd name="adj2" fmla="val 74991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65 Bold"/>
              </a:rPr>
              <a:t>توزيعات الأربا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5638680"/>
            <a:ext cx="7696080" cy="60984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Univers 65 Bold"/>
              </a:rPr>
              <a:t>يمكن إتباع أى طريقة عرض و لكن يجب الثبات على استخدام هذه الطريق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106704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6200" spc="-1" strike="noStrike">
                <a:solidFill>
                  <a:srgbClr val="000099"/>
                </a:solidFill>
                <a:latin typeface="Univers 45 Light"/>
              </a:rPr>
              <a:t>قائمة التدفقات النقدية</a:t>
            </a:r>
            <a:endParaRPr b="1" lang="en-US" sz="62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343040" y="3124080"/>
            <a:ext cx="4419720" cy="1371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105000"/>
              </a:lnSpc>
              <a:spcBef>
                <a:spcPts val="1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هشام الافندى – شريك</a:t>
            </a:r>
            <a:endParaRPr b="1" lang="en-US" sz="3600" spc="-1" strike="noStrike">
              <a:solidFill>
                <a:srgbClr val="ffffff"/>
              </a:solidFill>
              <a:latin typeface="Univers 45 Light"/>
            </a:endParaRPr>
          </a:p>
          <a:p>
            <a:pPr indent="0" algn="ctr" rtl="1">
              <a:lnSpc>
                <a:spcPct val="105000"/>
              </a:lnSpc>
              <a:spcBef>
                <a:spcPts val="1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KPMG</a:t>
            </a:r>
            <a:r>
              <a:rPr b="1" lang="ar-SA" sz="3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حازم حسن</a:t>
            </a:r>
            <a:endParaRPr b="1" lang="en-US" sz="3600" spc="-1" strike="noStrike">
              <a:solidFill>
                <a:srgbClr val="ffffff"/>
              </a:solidFill>
              <a:latin typeface="Univers 45 Light"/>
            </a:endParaRPr>
          </a:p>
        </p:txBody>
      </p:sp>
      <p:pic>
        <p:nvPicPr>
          <p:cNvPr id="46" name="bs00554_" descr=""/>
          <p:cNvPicPr/>
          <p:nvPr/>
        </p:nvPicPr>
        <p:blipFill>
          <a:blip r:embed="rId1"/>
          <a:stretch/>
        </p:blipFill>
        <p:spPr>
          <a:xfrm>
            <a:off x="596880" y="2170080"/>
            <a:ext cx="3975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أنشطة التشغيل - 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                 </a:t>
            </a:r>
            <a:r>
              <a:rPr b="1" lang="ar-SA" sz="4000" spc="-1" strike="noStrike">
                <a:solidFill>
                  <a:srgbClr val="0000fa"/>
                </a:solidFill>
                <a:latin typeface="Univers 45 Light"/>
              </a:rPr>
              <a:t>ضرائب الدخ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ebdings" charset="2"/>
              <a:buChar char=""/>
              <a:tabLst>
                <a:tab algn="l" pos="1127160"/>
                <a:tab algn="l" pos="1690560"/>
                <a:tab algn="l" pos="2254320"/>
                <a:tab algn="l" pos="2817720"/>
                <a:tab algn="l" pos="3381480"/>
                <a:tab algn="l" pos="3944880"/>
                <a:tab algn="l" pos="4508640"/>
                <a:tab algn="l" pos="5072040"/>
                <a:tab algn="l" pos="5635800"/>
                <a:tab algn="l" pos="6199200"/>
                <a:tab algn="l" pos="6762600"/>
                <a:tab algn="l" pos="7326360"/>
                <a:tab algn="l" pos="7889760"/>
                <a:tab algn="l" pos="8453520"/>
                <a:tab algn="l" pos="9016920"/>
                <a:tab algn="l" pos="9580680"/>
                <a:tab algn="l" pos="10144080"/>
                <a:tab algn="l" pos="107078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تدفقات النقدية الناتجة من الضرائب على الدخل يجب الافصاح عنها بشكل منفصل كجزء من الأنشطة التشغيلية ما لم يمكن تحديد أنها ترتبط بصفة خاصة بالأنشطة التمويلية والاستثمار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6340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1127160"/>
                <a:tab algn="l" pos="1690560"/>
                <a:tab algn="l" pos="2254320"/>
                <a:tab algn="l" pos="2817720"/>
                <a:tab algn="l" pos="3381480"/>
                <a:tab algn="l" pos="3944880"/>
                <a:tab algn="l" pos="4508640"/>
                <a:tab algn="l" pos="5072040"/>
                <a:tab algn="l" pos="5635800"/>
                <a:tab algn="l" pos="6199200"/>
                <a:tab algn="l" pos="6762600"/>
                <a:tab algn="l" pos="7326360"/>
                <a:tab algn="l" pos="7889760"/>
                <a:tab algn="l" pos="8453520"/>
                <a:tab algn="l" pos="9016920"/>
                <a:tab algn="l" pos="9580680"/>
                <a:tab algn="l" pos="10144080"/>
                <a:tab algn="l" pos="1070784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63400" indent="-5378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ebdings" charset="2"/>
              <a:buChar char=""/>
              <a:tabLst>
                <a:tab algn="l" pos="1127160"/>
                <a:tab algn="l" pos="1690560"/>
                <a:tab algn="l" pos="2254320"/>
                <a:tab algn="l" pos="2817720"/>
                <a:tab algn="l" pos="3381480"/>
                <a:tab algn="l" pos="3944880"/>
                <a:tab algn="l" pos="4508640"/>
                <a:tab algn="l" pos="5072040"/>
                <a:tab algn="l" pos="5635800"/>
                <a:tab algn="l" pos="6199200"/>
                <a:tab algn="l" pos="6762600"/>
                <a:tab algn="l" pos="7326360"/>
                <a:tab algn="l" pos="7889760"/>
                <a:tab algn="l" pos="8453520"/>
                <a:tab algn="l" pos="9016920"/>
                <a:tab algn="l" pos="9580680"/>
                <a:tab algn="l" pos="10144080"/>
                <a:tab algn="l" pos="107078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إذا تم تخصيص مدفوعات ضرائب الدخل على أكثر من نوع من النشاط ، يجب الإفصاح عن ذلك في إيضاح مرفق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ثال لحساب الضريبة على الدخ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8600" y="1084320"/>
          <a:ext cx="8686800" cy="3321000"/>
        </p:xfrm>
        <a:graphic>
          <a:graphicData uri="http://schemas.openxmlformats.org/drawingml/2006/table">
            <a:tbl>
              <a:tblPr/>
              <a:tblGrid>
                <a:gridCol w="1514520"/>
                <a:gridCol w="1514520"/>
                <a:gridCol w="5657760"/>
              </a:tblGrid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  <a:cs typeface="Arabic Transparent"/>
                        </a:rPr>
                        <a:t>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000099"/>
                          </a:solidFill>
                          <a:latin typeface="Univers 45 Light"/>
                          <a:cs typeface="Arabic Transparent"/>
                        </a:rPr>
                        <a:t>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  <a:cs typeface="Arabic Transparent"/>
                        </a:rPr>
                        <a:t>بيانات مستخرجة من قائمة الدخل لعام 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200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× 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ربح قبل الضريب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0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  ضرائب الدخ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  ضرائب مؤجل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5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توزيعات 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9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  مرح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4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  نهائ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495680"/>
          <a:ext cx="8686800" cy="1265400"/>
        </p:xfrm>
        <a:graphic>
          <a:graphicData uri="http://schemas.openxmlformats.org/drawingml/2006/table">
            <a:tbl>
              <a:tblPr/>
              <a:tblGrid>
                <a:gridCol w="1514520"/>
                <a:gridCol w="1514520"/>
                <a:gridCol w="5657760"/>
              </a:tblGrid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200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200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000099"/>
                          </a:solidFill>
                          <a:latin typeface="Univers 45 Light"/>
                          <a:cs typeface="Arabic Transparent"/>
                        </a:rPr>
                        <a:t>بيانات مستخرجة من الميزانية فى 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31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 ديسمب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7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تزامات متداولة - ضرائب الدخ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9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تزامات غير متداولة - ضرائب مؤجل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228600" y="5791320"/>
            <a:ext cx="8686800" cy="533160"/>
          </a:xfrm>
          <a:prstGeom prst="rect">
            <a:avLst/>
          </a:prstGeom>
          <a:solidFill>
            <a:srgbClr val="fc0128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5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مطلوب : تحديد قيمة الضريبة المسددة بواسطة الشركة (×) فى سنة </a:t>
            </a:r>
            <a:r>
              <a:rPr b="1" lang="ar-EG" sz="25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2008</a:t>
            </a:r>
            <a:r>
              <a:rPr b="1" lang="ar-EG" sz="2500" spc="-1" strike="noStrike">
                <a:solidFill>
                  <a:srgbClr val="ffffff"/>
                </a:solidFill>
                <a:latin typeface="Univers 45 Light"/>
                <a:ea typeface="Arabic Transparent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ل مثال - الضريبة على الدخ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6760" y="1338120"/>
          <a:ext cx="8610480" cy="4454640"/>
        </p:xfrm>
        <a:graphic>
          <a:graphicData uri="http://schemas.openxmlformats.org/drawingml/2006/table">
            <a:tbl>
              <a:tblPr/>
              <a:tblGrid>
                <a:gridCol w="3048120"/>
                <a:gridCol w="1295280"/>
                <a:gridCol w="3048120"/>
                <a:gridCol w="1218960"/>
              </a:tblGrid>
              <a:tr h="5418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800" spc="-1" strike="noStrike">
                          <a:solidFill>
                            <a:srgbClr val="fafd00"/>
                          </a:solidFill>
                          <a:latin typeface="Univers 45 Light"/>
                          <a:cs typeface="Arabic Transparent"/>
                        </a:rPr>
                        <a:t>ضرائب الدخل – حساب مؤق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afd00"/>
                          </a:solidFill>
                          <a:latin typeface="Univers 45 Light"/>
                          <a:cs typeface="Arabic Transparent"/>
                        </a:rPr>
                        <a:t>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afd00"/>
                          </a:solidFill>
                          <a:latin typeface="Univers 45 Light"/>
                          <a:cs typeface="Arabic Transparent"/>
                        </a:rPr>
                        <a:t>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  <a:cs typeface="Arabic Transparent"/>
                        </a:rPr>
                        <a:t>أرصدة أول المد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الدخ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مسددة (رصيد متمم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69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مؤجل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  <a:cs typeface="Arabic Transparent"/>
                        </a:rPr>
                        <a:t>المحمل على قائمة الدخ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  <a:cs typeface="Arabic Transparent"/>
                        </a:rPr>
                        <a:t>أرصدة آخر المد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الدخ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0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الدخ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71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مؤجل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5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ضرائب مؤجل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9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63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  <a:ea typeface="Arabic Transparent"/>
                        </a:rPr>
                        <a:t>63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أنشطة التشغيل -             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ظهر البنود بقائمة التدفقات النقدية (مبيعات – مشتريات ....إلخ) صافية من ضرائب المبيعات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 يظهر صافى التغير فى المبالغ المستحقة و المسددة إلى مصلحة الضرائب على المبيعات ضمن التدفقات النقدية من أنشطة  التشغيل ما لم تكون معالجة مختلفة أكثر ملائمة في الظروف المحيط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066680"/>
          <a:ext cx="8305920" cy="5315040"/>
        </p:xfrm>
        <a:graphic>
          <a:graphicData uri="http://schemas.openxmlformats.org/drawingml/2006/table">
            <a:tbl>
              <a:tblPr/>
              <a:tblGrid>
                <a:gridCol w="1828800"/>
                <a:gridCol w="1905120"/>
                <a:gridCol w="4572000"/>
              </a:tblGrid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هذا العا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سنة الماض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يزانية فى نهاية العا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صول غير متداول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خزو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عمـــلاء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6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 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نقد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530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6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04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41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أس مال – أسه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إحتياطيات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34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جمالى حقوق الملك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9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1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4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1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زامات جارية – موردون،ضريبة مبيعات،كسب عم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530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6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04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41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تابع 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يتكون رصيد الموردون من :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- رصيد من دفتر حسابات استاذ الموردين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ب- ضرائب مبيعات مستحق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- خصومات ضريبية من مرتبات مستحقة للسلطات الضريبي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فيما يلي حسابات الرقابة الملخصة للنشاط ، وتخضع كل المبيعات والمشتريات لضريبة مبيعات بنسبة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.5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%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تابع 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66760" y="1143000"/>
          <a:ext cx="8610480" cy="5351400"/>
        </p:xfrm>
        <a:graphic>
          <a:graphicData uri="http://schemas.openxmlformats.org/drawingml/2006/table">
            <a:tbl>
              <a:tblPr/>
              <a:tblGrid>
                <a:gridCol w="2895480"/>
                <a:gridCol w="1447920"/>
                <a:gridCol w="2895480"/>
                <a:gridCol w="1371600"/>
              </a:tblGrid>
              <a:tr h="477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4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رقابة أستاذ حسابات العملا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تحصلات نقد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8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6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4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33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440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33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246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4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رقابة أستاذ حسابات الموردي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نقدية 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36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مشتريات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رصيد آخر المدة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تكلفة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5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صول غير متداول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دار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9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صول غير متداول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9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05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9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05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تابع 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66760" y="990720"/>
          <a:ext cx="8610480" cy="5448240"/>
        </p:xfrm>
        <a:graphic>
          <a:graphicData uri="http://schemas.openxmlformats.org/drawingml/2006/table">
            <a:tbl>
              <a:tblPr/>
              <a:tblGrid>
                <a:gridCol w="2895480"/>
                <a:gridCol w="1447920"/>
                <a:gridCol w="2895480"/>
                <a:gridCol w="1371600"/>
              </a:tblGrid>
              <a:tr h="509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ضريبة المبيعات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- ضريبة مبيعات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ضريبة مبيعات على المشتري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33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نقدية 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8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ضريبة مبيعات على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3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- ضريبة مبيعات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317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317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509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رقابة الأجور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– ضريبة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أجور ال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9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ضريبة مسد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جور ضمن تكلفة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– ضريبة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5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جور إدار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5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540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تابع مثال: ضريبة المبيعات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19040" y="1222200"/>
          <a:ext cx="8305920" cy="4111560"/>
        </p:xfrm>
        <a:graphic>
          <a:graphicData uri="http://schemas.openxmlformats.org/drawingml/2006/table">
            <a:tbl>
              <a:tblPr/>
              <a:tblGrid>
                <a:gridCol w="1828800"/>
                <a:gridCol w="1905120"/>
                <a:gridCol w="457200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يانات مستخرجة من قائمة الدخل عن العام 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47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89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afd00"/>
                          </a:solidFill>
                          <a:uFillTx/>
                          <a:latin typeface="Univers 45 Light"/>
                        </a:rPr>
                        <a:t>تكلفة المبيعات</a:t>
                      </a: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3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21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شتريات (لا يوجد مخزون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رتبات وأجو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3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51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هلا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afd00"/>
                          </a:solidFill>
                          <a:uFillTx/>
                          <a:latin typeface="Univers 45 Light"/>
                        </a:rPr>
                        <a:t>مصروفات إدارية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77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شتري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077</a:t>
                      </a: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196</a:t>
                      </a:r>
                      <a:r>
                        <a:rPr b="1" lang="ar-SA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جو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صافى الربح قبل الضريب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304920" y="5410080"/>
            <a:ext cx="8534160" cy="838440"/>
          </a:xfrm>
          <a:prstGeom prst="rect">
            <a:avLst/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5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مطلوب: إعداد قائمة التدفقات النقدية بإستخدام الطريقة المباشرة و غير المباشرة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     تحديد النقدية المحصلة من العملاء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ظهر حساب رقابة حسابات أستاذ العملاء المتحصلات النقدية بمبلغ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8744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وهذا المبلغ يشتمل على ضريبة مبيعات بمعدل  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.5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% ويترتب على استبعاد ضريبة المبيعات ما يلى :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=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.787.44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÷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17.5%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=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.521.226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لاحظ أن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هذا الرقم لا يعكس أن ضريبة المبيعات قد تم المحاسبة عنها على المبيعات عندما حررت الفاتورة . ولذلك فإنه يجب استبعادها على المبيعات و ليس على المتحصلات ، كما يتضح مما يلى :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تحصلات نقدية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8744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cs typeface="Simplified Arabic"/>
              </a:rPr>
              <a:t>يخصم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: ضريبة مبيعات على المبيعات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محسوبة من قائمة الدخل 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.589.447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×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7.5</a:t>
            </a:r>
            <a:r>
              <a:rPr b="1" lang="ar-SA" sz="24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%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)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278153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0" algn="just" rtl="1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تحصلات العملاء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1509287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أهداف قائمة التدفقات النقد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571680" indent="-5461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هدف معيار المحاسبة الدولي رقم (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أن تقدم المنشأة معلومات عن التغيرات التاريخية فى النقدية وما يعادلها عن طريق قائمة التدفقات النقدية التى تصنف التدفقات النقدية خلال الفترة بين تلك الناتجة من الأنشطة التشغيلية والاستثمارية والتمويلي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71680" indent="-5461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ن مستخدموا القوائم المالية يحتاجون إلى معلومات عن السيولة ، والسلامة المالية وإمكانية التكيف المالي للمنشآت، الأمر الذى يسهل عملية مقارنة أداء التدفق النقدى بين الشركات المختلف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571680" indent="-5461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مد مستخدمو القوائم المالية بمعلومات تمكنهم من تقييم التدفقات النقدية المستقبلية للمنشأة (أساس ثروة وقيمة المنشأة)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تابع تحديد النقدية المحصلة من العملاء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1218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كمدخل بديل ، والذى يكون استخدامه أسهل اذا لم تتضمن الحالة حسابات الرقابة ، هو اعادة تصوير حساب رقابة العملاء ، على النحو التالي :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6760" y="2514600"/>
          <a:ext cx="8610480" cy="2911320"/>
        </p:xfrm>
        <a:graphic>
          <a:graphicData uri="http://schemas.openxmlformats.org/drawingml/2006/table">
            <a:tbl>
              <a:tblPr/>
              <a:tblGrid>
                <a:gridCol w="2895480"/>
                <a:gridCol w="1447920"/>
                <a:gridCol w="2895480"/>
                <a:gridCol w="1371600"/>
              </a:tblGrid>
              <a:tr h="573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حـ / رقابة أستاذ حساب العملاء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متحصلات نقدية (رقم متم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287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509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(يشتمل على ضريبة المبيعات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بيعات من قائمة الدخل (بالتالى مستبعد منها ضريبة المبيعات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4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89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8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55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87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55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333440" y="5715000"/>
            <a:ext cx="6477120" cy="53352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تغير فى رصيد العملاء = 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265840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 – 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346000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 = (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80160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    تحديد النقدية المدفوعة إلى الموردين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مراعاة أن مشتريات النفقات الرأسمالية ليست تدفق نقدي خارج من الأنشطة التشغيلية و بالتالى يجب إدراجها ضمن التدفقات النقدية من أنشطة الاستثمار. 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79360" y="2057400"/>
          <a:ext cx="8572680" cy="4113360"/>
        </p:xfrm>
        <a:graphic>
          <a:graphicData uri="http://schemas.openxmlformats.org/drawingml/2006/table">
            <a:tbl>
              <a:tblPr/>
              <a:tblGrid>
                <a:gridCol w="1320840"/>
                <a:gridCol w="1295280"/>
                <a:gridCol w="595656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36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دفوعات النقدية وفقاً لحساب الرقاب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يخصم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: المدفوعات النقدية للأصل غير المتداو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8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–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6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 من حساب رقابة أستاذ الموردي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88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يخصم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: ضريبة مبيعات على المشتريات (بدون الأصول الرأسمالية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33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جمالى ضريبة المبيعات على المشتريات (ح/ ض.المبيعات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33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95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257480" indent="-508320"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 u="sng">
                          <a:solidFill>
                            <a:srgbClr val="ffffff"/>
                          </a:solidFill>
                          <a:uFillTx/>
                          <a:latin typeface="Univers 45 Light"/>
                        </a:rPr>
                        <a:t>يخصم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: ضريبة مبيعات على أصول رأسمالي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257480" indent="-508320"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          ( 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4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 ÷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17.5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)  ×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7.5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67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092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مدفوع للموردين عن أنشطة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           تحديد التغير فى الموردين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تغير فى دائنى ضريبة المبيعات (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34600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– 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2164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= 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22436</a:t>
            </a:r>
            <a:r>
              <a:rPr b="1" lang="en-US" sz="22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يمكن إجراء مقاصة بالنسبة لهذا المبلغ مع المدفوعات النقدية للموردين 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ن التغير في الموردين المدرج فى قائمة التسوية يشتمل الموردين التجاريين ( مع استبعاد دائنو الأصول غير المتداولة ) وأى مستحقات مرتبطة بالمرتبات و الاجور . كذلك قد يتم إدراج التغير في دائني ضريبة المبيعات . (مع أن المتحصلات النقدية من العملاء والنقدية المسددة للموردين يجب إظهارها على أساس صافى من ضريبة المبيعات ، إلا أن تحرك ضريبة المبيعات يجب أيضا تخصيصه للأنشطة التشغيلية)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79360" y="3857760"/>
          <a:ext cx="8572680" cy="2466720"/>
        </p:xfrm>
        <a:graphic>
          <a:graphicData uri="http://schemas.openxmlformats.org/drawingml/2006/table">
            <a:tbl>
              <a:tblPr/>
              <a:tblGrid>
                <a:gridCol w="1320840"/>
                <a:gridCol w="1295280"/>
                <a:gridCol w="595656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سنة الحا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سنة الساب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بيانات من معطيات حسابات الرقابة التفصيلية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وردون تجاريو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5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4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خصومات ضريبية من المرتبات و الأجو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4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ضريبة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90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4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686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تغي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-  تحديد النفقات على الأصول غير المتداول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2286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أصول غير المتداولة المشتراة كما ظهر فى حساب رقابة استاذ المشتريات هى 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94000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، وهذا المبلغ يشتمل على ضريبة المبيعات . السعر الخالى من ضريبة المبيعات هو 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80000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. هذا المبلغ يتفق مع البيانات الظاهرة فى حساب الأصول غير المتداولة وفقا للميزانيات العموم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66760" y="3673440"/>
          <a:ext cx="8610480" cy="2333520"/>
        </p:xfrm>
        <a:graphic>
          <a:graphicData uri="http://schemas.openxmlformats.org/drawingml/2006/table">
            <a:tbl>
              <a:tblPr/>
              <a:tblGrid>
                <a:gridCol w="3009960"/>
                <a:gridCol w="1333440"/>
                <a:gridCol w="2895480"/>
                <a:gridCol w="1371600"/>
              </a:tblGrid>
              <a:tr h="573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الأصول غير المتداولة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عبء الإهلاك (من قائمة الدخل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ضافات (رصيد متمم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000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3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64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3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609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36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-     تحديد التغير فى دائنو الأصول غير المتداولة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8052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حيث أن هناك حساب دائنين فى نهاية السنة ، لذلك فالنفقة الرأسمالية هى(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80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–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46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) =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34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وهذا المبلغ لا يمثل مدفوعات نقدية صافية لأن الـ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80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لا تشتمل على ضريبة المبيعات لكن مبلغ الـ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46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تشتمل ضريبة المبيعات . ومع ذلك ، فهى نفس الطريقة التى تم بها الوصول الى رقم المدفوعات النقدية الى الموردين فى اجمالى التدفقات النقدية التشغيلية ، بمعنى ، النقدية المسددة تساوى :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0" algn="just" rtl="1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 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 جنيه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0" algn="just" rtl="1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شتريات ( صافية من ضريبة المبيعات)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80000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0" algn="just" rtl="1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تغير فى الدائنين ( الموردين )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46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0" algn="just" rtl="1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600" spc="-1" strike="noStrike" u="sng">
                <a:solidFill>
                  <a:srgbClr val="ffffff"/>
                </a:solidFill>
                <a:uFillTx/>
                <a:latin typeface="Univers 45 Light"/>
                <a:ea typeface="Simplified Arabic"/>
              </a:rPr>
              <a:t>34000</a:t>
            </a:r>
            <a:r>
              <a:rPr b="1" lang="ar-SA" sz="26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الحل</a:t>
            </a:r>
            <a:r>
              <a:rPr b="1" lang="en-US" sz="3600" spc="-1" strike="noStrike">
                <a:solidFill>
                  <a:srgbClr val="0000fa"/>
                </a:solidFill>
                <a:latin typeface="Univers 45 Light"/>
              </a:rPr>
              <a:t> </a:t>
            </a: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-          مستخلص من قائمة التدفقات النقدية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280" y="1066680"/>
          <a:ext cx="8839440" cy="5346720"/>
        </p:xfrm>
        <a:graphic>
          <a:graphicData uri="http://schemas.openxmlformats.org/drawingml/2006/table">
            <a:tbl>
              <a:tblPr/>
              <a:tblGrid>
                <a:gridCol w="3200400"/>
                <a:gridCol w="1219320"/>
                <a:gridCol w="3124080"/>
                <a:gridCol w="1295640"/>
              </a:tblGrid>
              <a:tr h="509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الطريقة غير المباشرة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18720">
                      <a:solidFill>
                        <a:srgbClr val="fc01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الطريقة المباشرة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18720">
                      <a:solidFill>
                        <a:srgbClr val="fc0128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أنشطة التشغي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أنشطة التشغي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ربح قبل الضريب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41.6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نقدية المحصلة من العملا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.509.2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يضاف : أعباء الإهلا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84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مدفوعات النقدية إلى المورد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.092.667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يخصم : الزيادة فى المخزو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النقدية المسددة إلى/نيابة عن العامل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175.39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 الأجور الصافية من ح/ الأجو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64.50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 ضريبة مسددة من ح/ الأجور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39.89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يخصم : الزيادة فى العملا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80.16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يضاف : الزيادة فى المورد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53.6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عناصر أخرى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 (الزيادة فى ض. المبيعات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22.4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990000"/>
                          </a:solidFill>
                          <a:latin typeface="Univers 45 Light"/>
                          <a:cs typeface="Arabic Transparent"/>
                        </a:rPr>
                        <a:t>صافى التدفقات النقدية من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199.16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990000"/>
                          </a:solidFill>
                          <a:latin typeface="Univers 45 Light"/>
                          <a:cs typeface="Arabic Transparent"/>
                        </a:rPr>
                        <a:t>صافى التدفقات النقدية من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199.16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أنشطة الاستثما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أنشطة الاستثما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شراء أصول غير متداول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4.00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شراء أصول غير متداول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34.00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vers 45 Light"/>
                          <a:ea typeface="Arabic Transparent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الزيادة فى النقد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165.16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الزيادة فى النقدي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165.16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أنشطة الإستثمار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دية المسددة للحصول على العقارات و الآلات والمعدات وعناصر الأصول غير المتداولة الأخرى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دية المحصلة من بيع العقارات والآلات والمعدات والأصول غير المتداولة الأخرى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دية المسددة مقابل الاستثمارات فى أو القروض الى المنشآت الأخرى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نقدية المحصلة من بيع الاستثمارات أو استرداد القروض الى منشآت أخرى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فائدة المحصلة على الاستثمارات أو القروض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توزيعات المحصلة على الاستثمارات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029200"/>
            <a:ext cx="2438280" cy="1371600"/>
          </a:xfrm>
          <a:prstGeom prst="rect">
            <a:avLst/>
          </a:prstGeom>
          <a:solidFill>
            <a:srgbClr val="fc0128"/>
          </a:soli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فوائد و التوزيعات يمكن إدراجها ضمن أنشطة التشغي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أنشطة التمويل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تحصلات من إصدار الأسهم أو أدوات حقوق الملكية الأخرى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متحصلات من إصدار السندات ، والقروض ، وأوراق الدفع ومن الاقتراض قصير وطويل الأجل ( بخلاف السحب على المكشوف الذى يعتبر فى العادة جزء من النقدية وما يعادلها )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رد المبالغ المقترضة ( بخلاف السحب على المكشوف )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عنصر الرأسمالي من مدفوعات الايجار التمويلى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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دفوعات لإعادة شراء أو استرداد أسهم المنشأة (أسهم الخزينة)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عناصر غير العادية بقائمة الدخ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عندما ترتبط التدفقات النقدية بعناصر تم تصنيفها على أنها غير عادية فى قائمة الدخل ، فيجب اظهارها تحت العناوين النمطية المناسبة ، وفقا لطبيعة كل عنصر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ويجب تحديد التدفقات النقدية المرتبطة بالعناصر غير العادية في قائمة التدفقات النقدية أو في الإيضاحات المتممة لها ويجب تفسير العلاقة بين التدفقات النقدية والعنصر غير العادى الناتج عنها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عندما تكون التدفقات النقدية غير عادية بسبب حجمها (بالنسبة للتدفقات النقدية من نفس الطبيعة) أو تكرارها ولكن ليس بسبب ارتباطها بعناصر تم معالجتها كعناصر غير عادية في قائمة الدخل ، يجب تقديم إفصاح كافي ليشرح سببها وطبيعتها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يجب إدراج التدفقات النقدية المرتبطة بالأنشطة غير المستمرة بشكل منفصل فى قائمة التدفقات النقدية أو فى الايضاحات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معاملات غير النقدية الرئيس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لا تدرج المعاملات غير النقدية الناتجة من أنشطة </a:t>
            </a:r>
            <a:r>
              <a:rPr b="1" lang="hi-IN" sz="2700" spc="-1" strike="noStrike" u="sng">
                <a:solidFill>
                  <a:srgbClr val="ffffff"/>
                </a:solidFill>
                <a:uFillTx/>
                <a:latin typeface="Univers 45 Light"/>
                <a:cs typeface="Simplified Arabic"/>
              </a:rPr>
              <a:t>الاستثمار</a:t>
            </a:r>
            <a:r>
              <a:rPr b="1" lang="en-US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و </a:t>
            </a:r>
            <a:r>
              <a:rPr b="1" lang="hi-IN" sz="2700" spc="-1" strike="noStrike" u="sng">
                <a:solidFill>
                  <a:srgbClr val="ffffff"/>
                </a:solidFill>
                <a:uFillTx/>
                <a:latin typeface="Univers 45 Light"/>
                <a:cs typeface="Simplified Arabic"/>
              </a:rPr>
              <a:t>التمويل</a:t>
            </a:r>
            <a:r>
              <a:rPr b="1" lang="en-US" sz="27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بقائمة التدفقات النقدية .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 3" charset="2"/>
              <a:buChar char="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للحصول على الصورة الكاملة للتغير فى الموقف المالى للمنشأة يجب الإفصاح عن هذه المعاملات في الإيضاحات المتممة لقائمة التدفقات النقدية . مثل :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4343400"/>
            <a:ext cx="8534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5000"/>
              <a:buFont typeface="Webdings" charset="2"/>
              <a:buChar char="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شراء الأصول عن طريق الإيجار التمويلى 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5000"/>
              <a:buFont typeface="Webdings" charset="2"/>
              <a:buChar char="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حويل الدين إلى حقوق ملكية 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5000" spc="-1" strike="noStrike">
                <a:solidFill>
                  <a:srgbClr val="0000fa"/>
                </a:solidFill>
                <a:latin typeface="Univers 45 Light"/>
              </a:rPr>
              <a:t>تعاريف</a:t>
            </a:r>
            <a:endParaRPr b="1" lang="en-US" sz="5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2362320"/>
            <a:ext cx="8382240" cy="76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marL="100080" indent="0" algn="r" rtl="1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تكون من النقدية في الخزينة والودائع تحت الطلب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1676520"/>
            <a:ext cx="3200400" cy="685800"/>
          </a:xfrm>
          <a:prstGeom prst="rect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000" spc="-1" strike="noStrike">
                <a:solidFill>
                  <a:srgbClr val="fafd00"/>
                </a:solidFill>
                <a:latin typeface="Univers 65 Bold"/>
                <a:cs typeface="Arabic Transparent"/>
              </a:rPr>
              <a:t>النقدية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419720"/>
            <a:ext cx="8382240" cy="1447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100080" indent="-3240" algn="r" rtl="1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هي الاستثمارات قصيرة الأجل ، التي تتمتع بدرجة عالية من السيولة والتى يمكن تحويلها بشكل ثابت الى مبالغ نقدية محددة والتى تخضع الى مخاطر غير جوهرية للتغييرات في القيمة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3733920"/>
            <a:ext cx="3200400" cy="685800"/>
          </a:xfrm>
          <a:prstGeom prst="rect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000" spc="-1" strike="noStrike">
                <a:solidFill>
                  <a:srgbClr val="fafd00"/>
                </a:solidFill>
                <a:latin typeface="Univers 65 Bold"/>
                <a:cs typeface="Arabic Transparent"/>
              </a:rPr>
              <a:t>ما فى حكم النقدية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قائمة التدفقات النقدية المجمع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عندما تمتلك الشركة شركات تابعة ، يجب أن تعتمد قوائم التدفقات النقدية على حسابات المجموعة ، ولذلك يجب أن يكون رقم البداية هو صافى التدفق النقدى من الأنشطة التشغيلية للمجموع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استبعاد التدفقات النقدية التي تكون داخلية في المجموعة (ما بين شركات المجموعة) عند إعداد قائمة التدفقات النقدية المجمعة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هناك نقاط خاصة يجب ملاحظتها بالنسبة لحقوق الأقلية ، الشركات الشقيقة ، المشروعات المشتركة وشراء والتخلص من الشركات التابع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قوق الأقل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r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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الافصاح عن التوزيعات المسددة لحقوق الأقلية بشكل منفصل ضمن الأنشطة التمويل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2409840"/>
          <a:ext cx="8229600" cy="29415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5486400"/>
              </a:tblGrid>
              <a:tr h="477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Univers 45 Light"/>
                          <a:cs typeface="Arabic Transparent"/>
                        </a:rPr>
                        <a:t>مثال – توزيعات حقوق الأقل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1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وزيعات المستحقة للأقلية (معلنة قبل نهاية السنة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7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حقوق الأقلية فى صافى أصول المجموع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2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حقوق الأقلية فى الربح المجمع بعد الضريب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طلوب : ما هى التوزيعات المسددة لحقوق الأقلية خلال السنة؟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ل مثال : حقوق الأقل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2038320"/>
          <a:ext cx="8610480" cy="3295800"/>
        </p:xfrm>
        <a:graphic>
          <a:graphicData uri="http://schemas.openxmlformats.org/drawingml/2006/table">
            <a:tbl>
              <a:tblPr/>
              <a:tblGrid>
                <a:gridCol w="3047760"/>
                <a:gridCol w="1295640"/>
                <a:gridCol w="3047760"/>
                <a:gridCol w="1219320"/>
              </a:tblGrid>
              <a:tr h="573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حـ / حقوق الأقلية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توزيعات مستحق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توزيعات مسددة (رصيد متم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حقوق أق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توزيعات مستحق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حصة الأقلية فى ربح السن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حقوق أق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4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9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4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9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شركات الشقيق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0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ترتب على الشركات الشقيقة تدفق نقدى داخل أو خارج بالنسبة للمجموعة للمدى الذى يكون فيه :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‌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م استلام التوزيعات من أرباح الشركة الشقيق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ب‌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حدوث متاجرة بين المجموعة والشركة الشقيقة أو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-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جود استثمارات اضافية فى الشركة الشقيقة.  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85800" indent="-6858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30000"/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جب ادراج التدفقات النقدية لأى وحدة يتم المحاسبة عنها بطريقة حقوق الملكية فى قائمة التدفقات النقدية للمجموعة </a:t>
            </a:r>
            <a:r>
              <a:rPr b="1" lang="ar-SA" sz="2800" spc="-1" strike="noStrike" u="sng">
                <a:solidFill>
                  <a:srgbClr val="fafd00"/>
                </a:solidFill>
                <a:uFillTx/>
                <a:latin typeface="Times New Roman"/>
                <a:cs typeface="Simplified Arabic"/>
              </a:rPr>
              <a:t>فقط الى المدى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الذى حدثت فيه تدفقات نقدية فعلية بين المجموعة والوحدة محل الاهتمام . على سبيل المثال ، التوزيعات المحصلة نقدا و القروض التى تمت أو سددت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متاجرة بين المجموعة والشركة الشقيق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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ؤدى المتاجرة بين المجموعة والشركة الشقيقة الى أرصدة معاملات متبادلة بين الشركات فى الميزانية العمومية للمجموعة فى نهاية السنة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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تم معالجة هذه الأرصدة بنفس الطريقة الخاصة بمعالجة أى أرصدة عملاء أو موردين تجاريين ، بمعنى أن التغير فى هذه الأرصدة يشكل جزء من التسوية بين ربح المجموعة وصافى التدفق النقدى الداخل للمجموعة من أنشطة التشغيل 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25000"/>
              <a:buFont typeface="Wingdings" charset="2"/>
              <a:buChar char="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يترتب على ذلك أنه عندما يتم سداد / تحصيل النقدية بالنسبة لأرصدة المعاملات بين الشركات ، فالنقدية يتم ادراجها ضمن النقدية المحصلة من العملاء / المدفوعات النقدية الى الموردين فى قائمة التدفقات النقدية . ومع ذلك ، قد يكون من المناسب عرض التدفق النقدى الداخل / الخارج بشكل منفصل عن العملاء والموردين الخارجيين للمجموعة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تغير فى الاستثمار فى الشركات الشقيق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921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485640"/>
                <a:tab algn="l" pos="971640"/>
                <a:tab algn="l" pos="1457280"/>
                <a:tab algn="l" pos="1943280"/>
                <a:tab algn="l" pos="2428920"/>
                <a:tab algn="l" pos="2914560"/>
                <a:tab algn="l" pos="3400560"/>
                <a:tab algn="l" pos="3886200"/>
                <a:tab algn="l" pos="4371840"/>
                <a:tab algn="l" pos="4857840"/>
                <a:tab algn="l" pos="5343480"/>
                <a:tab algn="l" pos="5829480"/>
                <a:tab algn="l" pos="6315120"/>
                <a:tab algn="l" pos="6800760"/>
                <a:tab algn="l" pos="7286760"/>
                <a:tab algn="l" pos="7772400"/>
                <a:tab algn="l" pos="8258040"/>
                <a:tab algn="l" pos="8744040"/>
                <a:tab algn="l" pos="9229680"/>
                <a:tab algn="l" pos="971568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نشأ التغير فى الاستثمار فى الشركة الشقيقة عندما :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485640"/>
                <a:tab algn="l" pos="971640"/>
                <a:tab algn="l" pos="1457280"/>
                <a:tab algn="l" pos="1943280"/>
                <a:tab algn="l" pos="2428920"/>
                <a:tab algn="l" pos="2914560"/>
                <a:tab algn="l" pos="3400560"/>
                <a:tab algn="l" pos="3886200"/>
                <a:tab algn="l" pos="4371840"/>
                <a:tab algn="l" pos="4857840"/>
                <a:tab algn="l" pos="5343480"/>
                <a:tab algn="l" pos="5829480"/>
                <a:tab algn="l" pos="6315120"/>
                <a:tab algn="l" pos="6800760"/>
                <a:tab algn="l" pos="7286760"/>
                <a:tab algn="l" pos="7772400"/>
                <a:tab algn="l" pos="8258040"/>
                <a:tab algn="l" pos="8744040"/>
                <a:tab algn="l" pos="9229680"/>
                <a:tab algn="l" pos="971568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‌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تم شراء ملكية اضافية أو يتم بيع جزء من الملك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485640"/>
                <a:tab algn="l" pos="971640"/>
                <a:tab algn="l" pos="1457280"/>
                <a:tab algn="l" pos="1943280"/>
                <a:tab algn="l" pos="2428920"/>
                <a:tab algn="l" pos="2914560"/>
                <a:tab algn="l" pos="3400560"/>
                <a:tab algn="l" pos="3886200"/>
                <a:tab algn="l" pos="4371840"/>
                <a:tab algn="l" pos="4857840"/>
                <a:tab algn="l" pos="5343480"/>
                <a:tab algn="l" pos="5829480"/>
                <a:tab algn="l" pos="6315120"/>
                <a:tab algn="l" pos="6800760"/>
                <a:tab algn="l" pos="7286760"/>
                <a:tab algn="l" pos="7772400"/>
                <a:tab algn="l" pos="8258040"/>
                <a:tab algn="l" pos="8744040"/>
                <a:tab algn="l" pos="9229680"/>
                <a:tab algn="l" pos="971568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‌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تم اجراء قروض من / الى الشركة الشقيقة أو يتم استرداد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بلغ المقترض فيما سبق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921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485640"/>
                <a:tab algn="l" pos="971640"/>
                <a:tab algn="l" pos="1457280"/>
                <a:tab algn="l" pos="1943280"/>
                <a:tab algn="l" pos="2428920"/>
                <a:tab algn="l" pos="2914560"/>
                <a:tab algn="l" pos="3400560"/>
                <a:tab algn="l" pos="3886200"/>
                <a:tab algn="l" pos="4371840"/>
                <a:tab algn="l" pos="4857840"/>
                <a:tab algn="l" pos="5343480"/>
                <a:tab algn="l" pos="5829480"/>
                <a:tab algn="l" pos="6315120"/>
                <a:tab algn="l" pos="6800760"/>
                <a:tab algn="l" pos="7286760"/>
                <a:tab algn="l" pos="7772400"/>
                <a:tab algn="l" pos="8258040"/>
                <a:tab algn="l" pos="8744040"/>
                <a:tab algn="l" pos="9229680"/>
                <a:tab algn="l" pos="971568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جب أن يظهر المقابل النقدى لهذه المعاملات ضمن قطاع الأنشطة  الاستثمارية فى قائمة التدفقات النقد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BH" sz="4000" spc="-1" strike="noStrike">
                <a:solidFill>
                  <a:srgbClr val="0000fa"/>
                </a:solidFill>
                <a:latin typeface="Univers 45 Light"/>
              </a:rPr>
              <a:t>المشاريع المشترك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دير بالذكر فى هذا الصدد أن المعالجة القياسية للمحاسبة عن المشاريع المشتركة فى القوائم المالية المجمعة هى استخدام طريقة التجميع النسبى ، بينما أن طريقة حق الملكية هى المعالجة البديلة المسموح بها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33320" indent="-73332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اذا تم استخدام طريقة حق الملكية ، فان المحاسبة عن المشروع المشترك فى قائمة التدفقات النقدية تكون هى نفسها الخاصة بالشركة الشقيقة . واذا تم استخدام طريقة التجميع النسبى ، عندئذ فان قائمة التدفقات النقدية المجمعة يجب أن تشتمل على الحصة النسبية للشركة المستثمرة فى كل التدفقات النقدية للوحدة المسيطر عليها بشكل مشترك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عمليات شراء والتخلص من الشركات التابعة خلال السنة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06668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35000"/>
              <a:buFont typeface="Wingdings 2" charset="2"/>
              <a:buChar char="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دما تشتر</a:t>
            </a:r>
            <a:r>
              <a:rPr b="1" lang="ar-EG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ى</a:t>
            </a:r>
            <a:r>
              <a:rPr b="1" lang="ar-SA" sz="2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شركة تابعة أو تترك المجموعة خلال السنة المالية ، يجب أن تتضمن التدفقات النقدية للمجموعة التدفقات النقدية للشركة التابعة محل الاهتمام عن نفس الفترة التى تم فيها ادراج نتائج الشركة التابعة فى قائمة دخل المجموعة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35000"/>
              <a:buFont typeface="Wingdings 2" charset="2"/>
              <a:buChar char="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التقرير عن المدفوعات لشراء الشركات التابعة والمتحصلات من بيع الشركات التابعة بشكل منفصل فى قائمة التدفقات النقدية تحت عنوان الأنشطة الاستثمارية . ويجب اظهار أى ارصدة نقدية أو ما يعادلها محصلة أو مسددة بشكل  منفصل (ليست بالصافى) 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35000"/>
              <a:buFont typeface="Wingdings 2" charset="2"/>
              <a:buChar char="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جب أن يظهر ايضاح مرفق بقائمة التدفقات النقدية يلخص آثار عمليات الشراء والتخلص من الشركات التابعة ويوضح قيمة المقابل المكون من النقدية وما يعادلها ، والأصول والالتزامات المشتراة أو التى تم التخلص منها 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800" spc="-1" strike="noStrike">
                <a:solidFill>
                  <a:srgbClr val="0000fa"/>
                </a:solidFill>
                <a:latin typeface="Univers 45 Light"/>
              </a:rPr>
              <a:t>الجوانب الحسابية لمعالجة عمليات الشراء والتخلص</a:t>
            </a:r>
            <a:endParaRPr b="1" lang="en-US" sz="38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ن جوهر عملية شراء الشركة التابعة هو أن المجموعة اشترت جميع اصول و التزامات الشركة التابع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عند إعداد قائمة التدفقات النقدية للمجموعة فإن أصول الشركة التابعة المشتراة لا تظهر بشكل منفصل (كنشاط استثمار) و إنما تظهر ضمن حركة التدفقات النقدية لنفس البنود على مستوى المجموعة ككل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تم تحديد قيمة التدفقات النقدية الداخلة أو الخارجة من المجموعة ككل (متضمنة الشركة التابعة) بنفس الأسلوب المتبع لكل بند على حده (حركة الحساب الرقابى للبند). 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200" spc="-1" strike="noStrike">
                <a:solidFill>
                  <a:srgbClr val="0000fa"/>
                </a:solidFill>
                <a:latin typeface="Univers 45 Light"/>
              </a:rPr>
              <a:t>تابع: الجوانب الحسابية لمعالجة عمليات الشراء والتخلص</a:t>
            </a:r>
            <a:endParaRPr b="1" lang="en-US" sz="32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04920" y="2433600"/>
          <a:ext cx="8610480" cy="2595600"/>
        </p:xfrm>
        <a:graphic>
          <a:graphicData uri="http://schemas.openxmlformats.org/drawingml/2006/table">
            <a:tbl>
              <a:tblPr/>
              <a:tblGrid>
                <a:gridCol w="2895480"/>
                <a:gridCol w="2971800"/>
                <a:gridCol w="2743200"/>
              </a:tblGrid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نهاية السنة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ما حدث خلال السنة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داية السنة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خزون المجموعة ويشتمل على الشركة التابعة المقتناة خلال السنة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4666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جنيه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تم شراء الشركة التابعة وتتضمن صافى الأصول المشتراة مخزون بمبلغ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384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جنيه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خزون المجموعة بدون الشركة التابعة التى لم تشترى بعد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3019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جنيه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04920" y="541008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500" spc="-1" strike="noStrike">
                <a:solidFill>
                  <a:srgbClr val="0000fa"/>
                </a:solidFill>
                <a:latin typeface="Univers 45 Light"/>
                <a:cs typeface="Arabic Transparent"/>
              </a:rPr>
              <a:t>الزيادة فى المخزون = 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74666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جنيه – (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53019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+ 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9384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) = 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12263</a:t>
            </a:r>
            <a:r>
              <a:rPr b="1" lang="ar-EG" sz="25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جنيه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295280"/>
            <a:ext cx="8534160" cy="685800"/>
          </a:xfrm>
          <a:prstGeom prst="rect">
            <a:avLst/>
          </a:prstGeom>
          <a:solidFill>
            <a:srgbClr val="0066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مثال: لتأثير مخزون الشركة التابعة المقتناة خلال العا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5000" spc="-1" strike="noStrike">
                <a:solidFill>
                  <a:srgbClr val="0000fa"/>
                </a:solidFill>
                <a:latin typeface="Univers 45 Light"/>
              </a:rPr>
              <a:t>تابع التعاريف</a:t>
            </a:r>
            <a:endParaRPr b="1" lang="en-US" sz="5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362320"/>
            <a:ext cx="8382240" cy="1752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100080" indent="-3240" algn="r" rtl="1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Univers 45 Light"/>
                <a:cs typeface="Simplified Arabic"/>
              </a:rPr>
              <a:t>قد تعتبر عمليات السحب على المكشوف عنصر سلبى في النقدية وما يعادلها ، إلا أن عمليات الاقتراض البنكية الأطول أجلا تعتبر بصفة عامة أنشطة تمويلية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1676520"/>
            <a:ext cx="3200400" cy="685800"/>
          </a:xfrm>
          <a:prstGeom prst="rect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000" spc="-1" strike="noStrike">
                <a:solidFill>
                  <a:srgbClr val="fafd00"/>
                </a:solidFill>
                <a:latin typeface="Univers 65 Bold"/>
                <a:cs typeface="Arabic Transparent"/>
              </a:rPr>
              <a:t>السحب على المكشوف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105520"/>
            <a:ext cx="8382240" cy="761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100080" indent="-3240" algn="r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Univers 45 Light"/>
                <a:cs typeface="Simplified Arabic"/>
              </a:rPr>
              <a:t>هي التدفقات الداخلة والتدفقات الخارجة من النقدية وما يعادلها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4419720"/>
            <a:ext cx="3200400" cy="685800"/>
          </a:xfrm>
          <a:prstGeom prst="rect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000" spc="-1" strike="noStrike">
                <a:solidFill>
                  <a:srgbClr val="fafd00"/>
                </a:solidFill>
                <a:latin typeface="Univers 65 Bold"/>
                <a:cs typeface="Arabic Transparent"/>
              </a:rPr>
              <a:t>التدفقات النقدية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200" spc="-1" strike="noStrike">
                <a:solidFill>
                  <a:srgbClr val="0000fa"/>
                </a:solidFill>
                <a:latin typeface="Univers 45 Light"/>
              </a:rPr>
              <a:t>تابع: الجوانب الحسابية لمعالجة عمليات الشراء والتخلص</a:t>
            </a:r>
            <a:endParaRPr b="1" lang="en-US" sz="32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04920" y="1981080"/>
          <a:ext cx="8534160" cy="3700440"/>
        </p:xfrm>
        <a:graphic>
          <a:graphicData uri="http://schemas.openxmlformats.org/drawingml/2006/table">
            <a:tbl>
              <a:tblPr/>
              <a:tblGrid>
                <a:gridCol w="1815840"/>
                <a:gridCol w="6718320"/>
              </a:tblGrid>
              <a:tr h="129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هذا العا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شركة (أ) اشترت شركة (ب) خلال العام، و فيما يلى بيانات مستخرجة من حسابات المجموعة :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.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قيمة الدفترية للأصول غير المتداولة أول العا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.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قيمة الدفترية للأصول غير المتداولة آخر العا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.6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إهلاك العام المحمل على قائمة الدخ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قيمة الدفترية للأصول المتخلص منها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.8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قيمة العادلة لأصول (ب) عند شراء ( أ) لها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304920" y="571500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500" spc="-1" strike="noStrike">
                <a:solidFill>
                  <a:srgbClr val="0000fa"/>
                </a:solidFill>
                <a:latin typeface="Univers 45 Light"/>
                <a:cs typeface="Arabic Transparent"/>
              </a:rPr>
              <a:t>احسب التدفقات النقدية الخارجة من المجموعة لأصول غير متداولة خلال العام؟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066680"/>
            <a:ext cx="8534160" cy="685800"/>
          </a:xfrm>
          <a:prstGeom prst="rect">
            <a:avLst/>
          </a:prstGeom>
          <a:solidFill>
            <a:srgbClr val="0066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مثال: لتأثير الأصول غير المتداولة للشركة التابعة خلال العا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800" spc="-1" strike="noStrike">
                <a:solidFill>
                  <a:srgbClr val="0000fa"/>
                </a:solidFill>
                <a:latin typeface="Univers 45 Light"/>
              </a:rPr>
              <a:t>حل المثال: تأثير الأصول غير المتداولة للشركة التابعة خلال العام </a:t>
            </a:r>
            <a:endParaRPr b="1" lang="en-US" sz="28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66760" y="1530360"/>
          <a:ext cx="8610480" cy="2800440"/>
        </p:xfrm>
        <a:graphic>
          <a:graphicData uri="http://schemas.openxmlformats.org/drawingml/2006/table">
            <a:tbl>
              <a:tblPr/>
              <a:tblGrid>
                <a:gridCol w="2895480"/>
                <a:gridCol w="1447920"/>
                <a:gridCol w="2895480"/>
                <a:gridCol w="1371600"/>
              </a:tblGrid>
              <a:tr h="1053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ح/ الأصول غير المتداولة – صافى القيمة الدفترية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عبء الإهلا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6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للمجموع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أصول المتخلص منها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صول الشركة التابعة عند الشرا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8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6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إضافات (رصيد متم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4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9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2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9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304920" y="4952880"/>
            <a:ext cx="8534160" cy="99072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2600" spc="-1" strike="noStrike" u="sng">
                <a:solidFill>
                  <a:srgbClr val="0000fa"/>
                </a:solidFill>
                <a:uFillTx/>
                <a:latin typeface="Univers 45 Light"/>
                <a:cs typeface="Arabic Transparent"/>
              </a:rPr>
              <a:t>الخلاصة</a:t>
            </a:r>
            <a:r>
              <a:rPr b="1" lang="ar-EG" sz="26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: التدفقات النقدية الخارجة لشراء أصول غير متداولة خلال العام بمبلغ </a:t>
            </a:r>
            <a:r>
              <a:rPr b="1" lang="en-US" sz="26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</a:t>
            </a:r>
            <a:r>
              <a:rPr b="1" lang="ar-EG" sz="26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4.400.000</a:t>
            </a:r>
            <a:r>
              <a:rPr b="1" lang="ar-EG" sz="2600" spc="-1" strike="noStrike">
                <a:solidFill>
                  <a:srgbClr val="0000fa"/>
                </a:solidFill>
                <a:latin typeface="Univers 45 Light"/>
                <a:ea typeface="Arabic Transparent"/>
              </a:rPr>
              <a:t> جنيه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تخلص من الشركة التابع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6676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ebdings" charset="2"/>
              <a:buChar char="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تعالج عملية التخلص باستخدام نفس المبادئ الخاصة بعملية الشراء. للمدى الذى تم فيه استلام النقدية كمقابل ، فان هذه النقدية سوف تظهر كمتحصلات تحت الأنشطة الاستثماري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85640" indent="-4856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05000"/>
              <a:buFont typeface="Webdings" charset="2"/>
              <a:buChar char=""/>
              <a:tabLst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ذا كانت أى أصول أو التزامات للمجموعة سوف يتم تحليلها لتحديد التدفقات النقدية الداخلة / الخارجة ، فان  القيمة الدفترية لأصول / التزامات الشركة التابعة سوف تشكل جزء من هذا التحليل . أى أنه يتم استبعاد الأرصدة التى تخص الشركة التابعة المباعة من حركة الرصيد المقابل لها فى حسابات المجموعة وصولا للتغير النقدى للبند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مثال: ح/ الضرائب - عند التخلص من الشركة التابعة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19040" y="1776240"/>
          <a:ext cx="8305560" cy="3481200"/>
        </p:xfrm>
        <a:graphic>
          <a:graphicData uri="http://schemas.openxmlformats.org/drawingml/2006/table">
            <a:tbl>
              <a:tblPr/>
              <a:tblGrid>
                <a:gridCol w="3124080"/>
                <a:gridCol w="914400"/>
                <a:gridCol w="3429000"/>
                <a:gridCol w="838080"/>
              </a:tblGrid>
              <a:tr h="573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ح / الضرائب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أول المدة التزام المجموعة   (أ + ب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نقدية مسددة (رصيد متمم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عبء الضريبى عن السن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التزام ضريبى فى الشركة التابعة فى تاريخ التخل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رصيد آخر المدة التزام المجموع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×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3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×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c012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19040" y="3276720"/>
            <a:ext cx="2667240" cy="2895480"/>
          </a:xfrm>
          <a:prstGeom prst="rect">
            <a:avLst/>
          </a:prstGeom>
          <a:solidFill>
            <a:srgbClr val="0066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Univers 65 Bold"/>
              </a:rPr>
              <a:t>يتم استبعاد هذه الفروق ضمن تسويات صافى الربح وصولا التدفقات النقدية من التشغيل و تدرج التدفقات النقدية بالإجمالى (قبل إعادة التقييم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3400" spc="-1" strike="noStrike">
                <a:solidFill>
                  <a:srgbClr val="0000fa"/>
                </a:solidFill>
                <a:latin typeface="Univers 45 Light"/>
              </a:rPr>
              <a:t>أرباح وخسائر الصرف الأجنبى فى قوائم التدفقات النقدية</a:t>
            </a:r>
            <a:endParaRPr b="1" lang="en-US" sz="34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88" name=""/>
          <p:cNvSpPr/>
          <p:nvPr/>
        </p:nvSpPr>
        <p:spPr>
          <a:xfrm>
            <a:off x="6058080" y="3276720"/>
            <a:ext cx="2666880" cy="2895480"/>
          </a:xfrm>
          <a:prstGeom prst="rect">
            <a:avLst/>
          </a:prstGeom>
          <a:solidFill>
            <a:srgbClr val="0066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Univers 65 Bold"/>
              </a:rPr>
              <a:t>يتم تجاهلها حيث تمثل تدفقات نقدية فعلية داخلة أو خارجة من المنشأة عند تسوية المعاملات الخاصة بها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8560" y="3276720"/>
            <a:ext cx="2666880" cy="2895480"/>
          </a:xfrm>
          <a:prstGeom prst="rect">
            <a:avLst/>
          </a:prstGeom>
          <a:solidFill>
            <a:srgbClr val="0066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Univers 65 Bold"/>
              </a:rPr>
              <a:t>يتم حذف هذه الفروق عند تحديد صافى التدفقات النقدية من انشطة التشغيل (حركة الحسابات الرقابية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Univers 65 Bold"/>
              </a:rPr>
              <a:t>أو التغيرات فى رأس المال العامل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34040" y="1371600"/>
            <a:ext cx="2514600" cy="2286000"/>
          </a:xfrm>
          <a:prstGeom prst="downArrowCallout">
            <a:avLst>
              <a:gd name="adj1" fmla="val 27503"/>
              <a:gd name="adj2" fmla="val 27500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فروق الناتجة عن المعامل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360" y="1371600"/>
            <a:ext cx="2514600" cy="2286000"/>
          </a:xfrm>
          <a:prstGeom prst="downArrowCallout">
            <a:avLst>
              <a:gd name="adj1" fmla="val 27503"/>
              <a:gd name="adj2" fmla="val 27500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فروق الناتجة عن إعادة تقييم أرصدة متعلقة بالاستثمار أو التموي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4880" y="1371600"/>
            <a:ext cx="2514600" cy="2286000"/>
          </a:xfrm>
          <a:prstGeom prst="downArrowCallout">
            <a:avLst>
              <a:gd name="adj1" fmla="val 27503"/>
              <a:gd name="adj2" fmla="val 27500"/>
              <a:gd name="adj3" fmla="val 16667"/>
              <a:gd name="adj4" fmla="val 6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فروق الناتجة عن إعادة تقييم أرصدة متعلقة بالتشغي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ثا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شترت الشركة (أ) مواد خام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200.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Z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. وقد تم ترجمة هذا المبلغ الى قيمته الدفترية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00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فى نهاية السنة ، تم سداد نصف قيمة البضاعة (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48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نيه ) والمبلغ المستحق المتبقى تم اعادة ترجمته بسعر الاقفال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45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بيعات النقدية تبلغ 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1003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وتكلفة المبيعات ت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910000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حصلت الشركة على قرض طويل الأجل بالفرنك الفرنسى الذى تم تسجيله فى الميزانية العمومية للسنة 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سابقة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235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جنيه ولهذا العام بمبلغ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245000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جنيه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ebdings" charset="2"/>
              <a:buChar char="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afd00"/>
                </a:solidFill>
                <a:latin typeface="Univers 45 Light"/>
                <a:cs typeface="Simplified Arabic"/>
              </a:rPr>
              <a:t>وضح أثر هذه المعاملات على قائمة التدفقات النقدية؟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ل المثال – مستخرج من قائمة التدفقات النقد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0" y="1633680"/>
          <a:ext cx="4419360" cy="2890800"/>
        </p:xfrm>
        <a:graphic>
          <a:graphicData uri="http://schemas.openxmlformats.org/drawingml/2006/table">
            <a:tbl>
              <a:tblPr/>
              <a:tblGrid>
                <a:gridCol w="1295280"/>
                <a:gridCol w="312408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مستخرج من قائمة التدفقات النقدي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حصل نقدا من المبي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58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دفوعات للموردين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10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–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0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–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نقدية من أنشطة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دفقات النقدية من أنشطة التمو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صافى التغير فى النقد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28600" y="1633680"/>
          <a:ext cx="4343400" cy="4538520"/>
        </p:xfrm>
        <a:graphic>
          <a:graphicData uri="http://schemas.openxmlformats.org/drawingml/2006/table">
            <a:tbl>
              <a:tblPr/>
              <a:tblGrid>
                <a:gridCol w="1295280"/>
                <a:gridCol w="30481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مستخرج من قائمة التدفقات النقدي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رب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خسارة فروق الصرف على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قرض بعملة أجنب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تدفقات النقدية قبل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غيرات فى رأس المال العام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غير فى الموردين (الصافى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بعد إعادة التقيي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صافى النقدية من أنشطة التشغ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تدفقات النقدية من أنشطة التمو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14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صافى التغير فى النقد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5410080" y="1100160"/>
            <a:ext cx="2819520" cy="53352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طريقة المباشر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087560"/>
            <a:ext cx="2819160" cy="53316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الطريقة</a:t>
            </a:r>
            <a:r>
              <a:rPr b="1" lang="ar-EG" sz="2400" spc="-1" strike="noStrike">
                <a:solidFill>
                  <a:srgbClr val="ffffff"/>
                </a:solidFill>
                <a:latin typeface="Univers 65 Bold"/>
              </a:rPr>
              <a:t> غير</a:t>
            </a:r>
            <a:r>
              <a:rPr b="1" lang="ar-SA" sz="2400" spc="-1" strike="noStrike">
                <a:solidFill>
                  <a:srgbClr val="ffffff"/>
                </a:solidFill>
                <a:latin typeface="Univers 65 Bold"/>
              </a:rPr>
              <a:t> المباشر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4000" spc="-1" strike="noStrike">
                <a:solidFill>
                  <a:srgbClr val="0000fa"/>
                </a:solidFill>
                <a:latin typeface="Times New Roman"/>
                <a:cs typeface="Simplified Arabic"/>
              </a:rPr>
              <a:t>اعداد قوائم التدفقات النقدية المجمعة التى تنطوى على شركة تابعة أجنبية 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05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دما يكون جزء من نشاط وحدة التقرير يتم تنفذه بواسطة شركة أجنبية ، يجب ادراج التدفقات النقدية لتلك الوحدة فى قائمة التدفق النقدى على الأساس المستخدم لترجمة نتائج تلك الأنشطة فى قائمة الدخل لوحدة التقرير (الطريقة المؤقتة – طريقة سعر الاقفال).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05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جب استخدام نفس الأساس فى عرض التحركات فى المخزون ،والعملاء ، والموردين فى التسوية بين الربح و النقدية من الأنشطة التشغيلية .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975"/>
              </a:spcBef>
              <a:buClr>
                <a:srgbClr val="fafd00"/>
              </a:buClr>
              <a:buSzPct val="105000"/>
              <a:buFont typeface="Wingdings" charset="2"/>
              <a:buChar char="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دما يكون هناك قابلية لتحديد التدفقات النقدية ما بين المجموعة بشكل منفصل ويكون سعر الصرف الفعلى الذى حدثت به معروف ، قد يستخدم هذا السعر لترجمة التدفقات النقدية لكى نتأكد أنه قد تم حذفها عند التجميع 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الطريقة المؤقت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35040" indent="-63504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r" pos="4199040"/>
                <a:tab algn="r" pos="637524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باستخدام الطريقة المؤقتة ، سوف ترتبط فروق الصرف عند ترجمة القوائم المالية للمنشأة الأجنبية بصافى الأصول النقدية فى بداية الفترة لتلك المنشأة ( بمعنى ، العملاء والموردون ، والنقدية و القروض ) فى ظل الطريقة المؤقتة ، كل فروق الصرف يتم إدراجها بقائمة الدخل.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r" pos="4199040"/>
                <a:tab algn="r" pos="637524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إما أن يتم تجاهلها و بالتالى يسمح بتسجيل كامل التغير فى الميزانية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  <a:p>
            <a:pPr marL="635040" indent="-635040" algn="just" rtl="1">
              <a:lnSpc>
                <a:spcPct val="105000"/>
              </a:lnSpc>
              <a:spcBef>
                <a:spcPts val="1012"/>
              </a:spcBef>
              <a:buClr>
                <a:srgbClr val="fafd00"/>
              </a:buClr>
              <a:buSzPct val="120000"/>
              <a:buFont typeface="Wingdings" charset="2"/>
              <a:buChar char=""/>
              <a:tabLst>
                <a:tab algn="r" pos="4199040"/>
                <a:tab algn="r" pos="637524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hi-IN" sz="27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و أن فروق الصرف يتم ردها فى القسم الخاص بتسوية صافى الربح ويتم عرض التغيرات فى الميزانية بإجمالى قيمتها بدون إعادة التقييم  </a:t>
            </a:r>
            <a:endParaRPr b="1" lang="en-US" sz="27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4000" spc="-1" strike="noStrike">
                <a:solidFill>
                  <a:srgbClr val="0000fa"/>
                </a:solidFill>
                <a:latin typeface="Times New Roman"/>
                <a:cs typeface="Simplified Arabic"/>
              </a:rPr>
              <a:t>طريقة سعر الاقفال / صافى الاستثمار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55560" indent="-65556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عند استخدام طريقة سعر الاقفال / طريقة صافى الاستثمار ، سيرتبط فرق الصرف على ترجمة قوائم الوحدة الأجنبية بصافى أصول تلك الوحدة فى بداية الفترة ( بمعنى ، الأصول غير المتداولة ، المخزون ، العملاء ، النقدية ،الموردون ، القروض ) وكذلك ترتبط بالفرق بين السعر المتوسط وسعر اقفال الصرف عند ترجمة قائمة الدخل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55560" indent="-65556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فى ظل طريقة سعر الاقفال / صافى الاستثمار ، سيتم تحويل حصة المجموعة فى فروق صرف الترجمة مباشرة الى الاحتياطات. واذا كان هناك قروض بعملة أجنبية فى دفاتر الشركة القابضة ، فى العادة سوف تمر فروق الصرف الأجنبى من خلال قائمة الدخل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lang="ar-SA" sz="2800" spc="-1" strike="noStrike" u="sng">
                <a:solidFill>
                  <a:srgbClr val="fafd00"/>
                </a:solidFill>
                <a:uFillTx/>
                <a:latin typeface="Univers 45 Light"/>
                <a:cs typeface="Arabic Transparent"/>
              </a:rPr>
              <a:t>أنشطة التشغيل</a:t>
            </a:r>
            <a:r>
              <a:rPr b="1" lang="ar-SA" sz="2800" spc="-1" strike="noStrike">
                <a:solidFill>
                  <a:srgbClr val="fafd00"/>
                </a:solidFill>
                <a:latin typeface="Univers 45 Light"/>
                <a:ea typeface="Arabic Transparent"/>
              </a:rPr>
              <a:t>:</a:t>
            </a:r>
            <a:r>
              <a:rPr b="1" lang="ar-SA" sz="2800" spc="-1" strike="noStrike">
                <a:solidFill>
                  <a:srgbClr val="ff0000"/>
                </a:solidFill>
                <a:latin typeface="Univers 45 Light"/>
                <a:ea typeface="Arabic Transparent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هى الأنشطة الرئيسية المنتجة للإيراد للمنشأة ، والأنشطة الأخرى التى لا تمثل أنشطة استثمار أو تمويل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lang="ar-SA" sz="2800" spc="-1" strike="noStrike" u="sng">
                <a:solidFill>
                  <a:srgbClr val="fafd00"/>
                </a:solidFill>
                <a:uFillTx/>
                <a:latin typeface="Univers 45 Light"/>
                <a:cs typeface="Arabic Transparent"/>
              </a:rPr>
              <a:t>أنشطة الاستثمار:</a:t>
            </a:r>
            <a:r>
              <a:rPr b="1" lang="ar-SA" sz="2800" spc="-1" strike="noStrike">
                <a:solidFill>
                  <a:srgbClr val="ff0000"/>
                </a:solidFill>
                <a:latin typeface="Univers 45 Light"/>
                <a:ea typeface="Arabic Transparent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هى أنشطة اقتناء واستبعاد الأصول طويلة الأجل والاستثمارات الأخرى التى لا تدخل فى حكم النقدي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0480" indent="-3240" algn="just" rtl="1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lang="ar-SA" sz="2800" spc="-1" strike="noStrike" u="sng">
                <a:solidFill>
                  <a:srgbClr val="fafd00"/>
                </a:solidFill>
                <a:uFillTx/>
                <a:latin typeface="Univers 45 Light"/>
                <a:cs typeface="Arabic Transparent"/>
              </a:rPr>
              <a:t>أنشطة التمويل:</a:t>
            </a:r>
            <a:r>
              <a:rPr b="1" lang="ar-SA" sz="2800" spc="-1" strike="noStrike">
                <a:solidFill>
                  <a:srgbClr val="ff0000"/>
                </a:solidFill>
                <a:latin typeface="Univers 45 Light"/>
                <a:ea typeface="Arabic Transparent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هى الأنشطة التى ينتج عنها تغيرات فى حجم ومكونات حقوق الملكية والاقتراض بالمنشأ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04920"/>
            <a:ext cx="8534160" cy="685800"/>
          </a:xfrm>
          <a:prstGeom prst="rect">
            <a:avLst/>
          </a:prstGeom>
          <a:solidFill>
            <a:srgbClr val="fafd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 anchorCtr="1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  <a:cs typeface="Arabic Transparent"/>
              </a:rPr>
              <a:t>تابع التعاري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4000" spc="-1" strike="noStrike">
                <a:solidFill>
                  <a:srgbClr val="0000fa"/>
                </a:solidFill>
                <a:latin typeface="Times New Roman"/>
                <a:cs typeface="Simplified Arabic"/>
              </a:rPr>
              <a:t>تابع : طريقة سعر الاقفال / صافى الاستثمار</a:t>
            </a:r>
            <a:r>
              <a:rPr b="1" lang="en-US" sz="4000" spc="-1" strike="noStrike">
                <a:solidFill>
                  <a:srgbClr val="0000fa"/>
                </a:solidFill>
                <a:latin typeface="Univers 45 Light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655560" indent="-65556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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تطلب الأمر تحليل حركة التغير فى الأصول غير المتداولة لكى نحدد التدفق النقدى الحقيقى واستبعاد ذلك الجزء من التغير فى الأصول غير المتداولة الخاص بأرباح / خسارة صرف أجنبى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5556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655560" indent="-65556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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تطلب حقوق الأقلية التحليل لتحديد التوزيعات المسددة لهم ، يجب ملاحظة أن حقوق الأقلية تحتوى على حصته فى أرباح / خسارة الصرف الناتجة من ترجمة حسابات الشركة التابعة (يجب استبعادها لتحديد التدفقات النقدية)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زايا قائمة التدفقات النقدية 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وفر معلومات تكون غير متاحة فى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يزانية وقوائم الدخل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ساعد مستخدمى القوائم المالية فى وضع أحكام عن مبلغ ، وتوقيت ودرجة التأكد من التدفقات النقدية المستقبلي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عطى مؤشر عن العلاقة بين الربحية والقدرة على توليد النقدية ، وبالتالى عن جودة الربح المكتسب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ساعد محللوا ومستخدموا المعلومات المالية الآخرين فى فحص مدى دقة التوقعات النقدية المستقبلية التى قاموا بإعدادها فى فترات سابق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5000"/>
              <a:buFont typeface="Wingdings" charset="2"/>
              <a:buChar char="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تتأثر التدفقات النقدية بالحكم الشخصى أو السياسات المحاسبية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761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حدود قائمة التدفقات النقدية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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وائم التدفق النقدى تعتمد على معلومات تاريخية وبالتالى لا تقدم معلومات كاملة لتقييم التدفقات النقدية المستقبلية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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ناك بعض الحدود لمعالجة التدفقات النقدية فعلى سبيل المثال ، قد تؤجل الشركة السداد للموردين حتى بعد نهاية السنة ، أو قد تعيد هيكلة المعاملات لدرجة أن رصيد النقدية يظهر بصورة أفضل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 algn="just" rtl="1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120000"/>
              <a:buFont typeface="Wingdings" charset="2"/>
              <a:buChar char="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دفق النقدى ضرورى للاستمرار فى الأجل القصير ، لكن للبقاء فى الأجل الطويل يجب أن يكون النشاط مربحا . وفى الغالب يكون من الضرورى التضحية بالتدفق النقدى فى الأجل القصير لكى تتولد الأرباح فى الأجل الطويل فرصيد النقدية الضخم ليس مؤشراً على الإدارة الجيدة .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r" pos="571500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Univers 45 Light"/>
              </a:rPr>
              <a:t>أسئلة و استفسارات</a:t>
            </a:r>
            <a:endParaRPr b="1" lang="en-US" sz="5000" spc="-1" strike="noStrike">
              <a:solidFill>
                <a:srgbClr val="000099"/>
              </a:solidFill>
              <a:latin typeface="Univers 45 Light"/>
            </a:endParaRPr>
          </a:p>
        </p:txBody>
      </p:sp>
      <p:pic>
        <p:nvPicPr>
          <p:cNvPr id="213" name="hndshak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05920" cy="3886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230480" y="5530680"/>
            <a:ext cx="66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afd00"/>
                </a:solidFill>
                <a:latin typeface="MS Mincho"/>
                <a:cs typeface="AL-Bsher"/>
              </a:rPr>
              <a:t>أشكركم على حسن استماعك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عرض التدفقات النقدية من أنشطة التشغي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1981080"/>
            <a:ext cx="4038480" cy="441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100080" indent="-3240" algn="r" rtl="1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Univers 45 Light"/>
                <a:cs typeface="Simplified Arabic"/>
              </a:rPr>
              <a:t>توضح المتحصلات والمدفوعات النقدية المتعلقة بالتشغيل (تشتمل ، بصفة خاصة ، على المتحصلات النقدية من العملاء ، والمدفوعات النقدية للموردين والمدفوعات النقدية الى أو نيابة عن العاملين ) ، وصولا الى صافى التدفقات النقدية من أنشطة التشغي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981080"/>
            <a:ext cx="4038480" cy="441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marL="457200" indent="-360360" algn="just" rtl="1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تبدأ بالربح قبل الضرائب ويتم تسويته لاستبعاد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60360" algn="just" rtl="1">
              <a:lnSpc>
                <a:spcPct val="105000"/>
              </a:lnSpc>
              <a:spcBef>
                <a:spcPts val="901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المعاملات ذات الطبيعة غير النقدية 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60360" algn="just" rtl="1">
              <a:lnSpc>
                <a:spcPct val="105000"/>
              </a:lnSpc>
              <a:spcBef>
                <a:spcPts val="901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أى تأجيل أو استحقاق لمقبوضات أو لمدفوعات التشغيل الماضية أو المستقبلية (رأس المال العامل) 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60360" algn="just" rtl="1">
              <a:lnSpc>
                <a:spcPct val="105000"/>
              </a:lnSpc>
              <a:spcBef>
                <a:spcPts val="901"/>
              </a:spcBef>
              <a:buClr>
                <a:srgbClr val="fafd00"/>
              </a:buClr>
              <a:buSzPct val="105000"/>
              <a:buFont typeface="Wingdings" charset="2"/>
              <a:buChar char="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Univers 45 Light"/>
                <a:cs typeface="Arabic Transparent"/>
              </a:rPr>
              <a:t>بنود الإيرادات أو المصروفات المتعلقة بالتدفقات النقدية لأنشطة الاستثمار أو التمويل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1143000"/>
            <a:ext cx="4343400" cy="838080"/>
          </a:xfrm>
          <a:prstGeom prst="roundRect">
            <a:avLst>
              <a:gd name="adj" fmla="val 16667"/>
            </a:avLst>
          </a:prstGeom>
          <a:solidFill>
            <a:srgbClr val="7fff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00"/>
                </a:solidFill>
                <a:latin typeface="Univers 65 Bold"/>
                <a:cs typeface="Arabic Transparent"/>
              </a:rPr>
              <a:t>الطريقة المباش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143000"/>
            <a:ext cx="4343400" cy="838080"/>
          </a:xfrm>
          <a:prstGeom prst="roundRect">
            <a:avLst>
              <a:gd name="adj" fmla="val 16667"/>
            </a:avLst>
          </a:prstGeom>
          <a:solidFill>
            <a:srgbClr val="7fff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00"/>
                </a:solidFill>
                <a:latin typeface="Univers 65 Bold"/>
                <a:cs typeface="Arabic Transparent"/>
              </a:rPr>
              <a:t>الطريقة</a:t>
            </a:r>
            <a:r>
              <a:rPr b="1" lang="ar-EG" sz="3200" spc="-1" strike="noStrike">
                <a:solidFill>
                  <a:srgbClr val="990000"/>
                </a:solidFill>
                <a:latin typeface="Univers 65 Bold"/>
                <a:ea typeface="Arabic Transparent"/>
              </a:rPr>
              <a:t> غير</a:t>
            </a:r>
            <a:r>
              <a:rPr b="1" lang="ar-SA" sz="3200" spc="-1" strike="noStrike">
                <a:solidFill>
                  <a:srgbClr val="990000"/>
                </a:solidFill>
                <a:latin typeface="Univers 65 Bold"/>
                <a:ea typeface="Arabic Transparent"/>
              </a:rPr>
              <a:t> المباش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4000" spc="-1" strike="noStrike">
                <a:solidFill>
                  <a:srgbClr val="0000fa"/>
                </a:solidFill>
                <a:latin typeface="Univers 45 Light"/>
              </a:rPr>
              <a:t>مثال مقارن للتدفقات النقدية من أنشطة التشغيل</a:t>
            </a:r>
            <a:endParaRPr b="1" lang="en-US" sz="4000" spc="-1" strike="noStrike">
              <a:solidFill>
                <a:srgbClr val="000099"/>
              </a:solidFill>
              <a:latin typeface="Univers 45 Light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280" y="1693800"/>
          <a:ext cx="8839440" cy="4249800"/>
        </p:xfrm>
        <a:graphic>
          <a:graphicData uri="http://schemas.openxmlformats.org/drawingml/2006/table">
            <a:tbl>
              <a:tblPr/>
              <a:tblGrid>
                <a:gridCol w="3276720"/>
                <a:gridCol w="1143000"/>
                <a:gridCol w="3200400"/>
                <a:gridCol w="1219320"/>
              </a:tblGrid>
              <a:tr h="509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الطريقة غير المباشرة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18720">
                      <a:solidFill>
                        <a:srgbClr val="fc01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600" spc="-1" strike="noStrike">
                          <a:solidFill>
                            <a:srgbClr val="000099"/>
                          </a:solidFill>
                          <a:latin typeface="Univers 45 Light"/>
                        </a:rPr>
                        <a:t>الطريقة المباشرة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18720">
                      <a:solidFill>
                        <a:srgbClr val="fc0128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af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000" spc="-1" strike="noStrike">
                          <a:solidFill>
                            <a:srgbClr val="fafd00"/>
                          </a:solidFill>
                          <a:latin typeface="Univers 45 Light"/>
                        </a:rPr>
                        <a:t>بالألف جني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ربح قبل الضريب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.02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نقدية المحصلة من العملاء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.4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عباء الإهلاك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9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مدفوعات النقدية إلى المورد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.82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أرباح بيع أصول ثابتة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0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نقدية المسددة إلى العامل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.700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زيادة فى المخزو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4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نقدية المسددة نيابة عن العامل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00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الزيادة فى المورد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3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مدفوعات نقدية أخرى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11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صافى التدفقات النقدية من أنشطة التشغي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6.88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hi-IN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صافى التدفقات النقدية من أنشطة التشغي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c01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Univers 45 Light"/>
                        </a:rPr>
                        <a:t>6.88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c01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c0128"/>
                      </a:solidFill>
                    </a:lnB>
                    <a:solidFill>
                      <a:srgbClr val="fafd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990360"/>
          </a:xfrm>
          <a:prstGeom prst="rect">
            <a:avLst/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txBody>
          <a:bodyPr lIns="76320" rIns="76320" tIns="38160" bIns="38160" anchor="ctr" anchorCtr="1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ar-EG" sz="3600" spc="-1" strike="noStrike">
                <a:solidFill>
                  <a:srgbClr val="0000fa"/>
                </a:solidFill>
                <a:latin typeface="Univers 45 Light"/>
              </a:rPr>
              <a:t>تحديد إجمالى التدفقات النقدية من أنشطة التشغيل (الطريقة المباشرة)</a:t>
            </a:r>
            <a:endParaRPr b="1" lang="en-US" sz="3600" spc="-1" strike="noStrike">
              <a:solidFill>
                <a:srgbClr val="000099"/>
              </a:solidFill>
              <a:latin typeface="Univers 45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يتم تشجيع المنشآت على استخدام الطريقة المباشرة للتقرير عن صافى التدفق النقدى من الأنشطة التشغيلية . ويمكن تحديد التدفقات النقدية الملائمة مما يلى :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(أ)  من السجلات المحاسبية للمنشأة عن طريق تجميع المتحصلات النقدية والمدفوعات النقدية مباشرة .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أو (ب) م</a:t>
            </a:r>
            <a:r>
              <a:rPr b="1" lang="ar-EG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ن مقارنة 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يزانيات في بداية ونهاية المدة وقائمة الدخل عن السنة بإعداد حسابات رقابة ملخصة عن :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بيعات ( لتحديد النقدية المحصلة من العملاء )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شتريات ( لتحديد المدفوعات النقدية إلى الموردين )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  <a:p>
            <a:pPr marL="758880" indent="0" algn="just" rtl="1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  <a:tab algn="l" pos="597204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Univers 45 Light"/>
                <a:ea typeface="Simplified Arabic"/>
              </a:rPr>
              <a:t>-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Univers 45 Light"/>
                <a:cs typeface="Simplified Arabic"/>
              </a:rPr>
              <a:t>المرتبات ( لتحديد النقدية المسددة إلى ونيابة عن العمال ) 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8:14:35Z</dcterms:created>
  <dc:creator>Amany Mahmoud</dc:creator>
  <dc:description/>
  <dc:language>en-US</dc:language>
  <cp:lastModifiedBy>Administrator</cp:lastModifiedBy>
  <dcterms:modified xsi:type="dcterms:W3CDTF">2005-03-08T17:56:59Z</dcterms:modified>
  <cp:revision>1923</cp:revision>
  <dc:subject/>
  <dc:title>PowerPoint Presentation</dc:title>
</cp:coreProperties>
</file>